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5C15-E624-4E73-8F2B-FAE68C56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A77A-5F99-437C-88A1-1E0D8A64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647B-EC3E-467D-8F71-73734D71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5819-DAD4-48C9-8CA7-AE967401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8858-7439-4A5A-91E7-D03C3A00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7BC-6A35-4270-87B9-D75EA00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564-A749-4E9A-BF1D-033886F5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2355-E15A-42C7-9396-98B3E56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5F1-D242-486B-A55C-AB7E57CA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206F-45B4-4805-AAF3-93AEF7C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7AB-B7B2-47C6-B933-98CEF01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042D-0369-4148-8AA0-AA2EA94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C5A-36F7-4331-AC93-9939DC6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B0B8-9446-4762-A29B-AD1109A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5F1-C86D-4D29-8AFB-2F014781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D823-6AF5-4D5B-BBD7-CE5CFA96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E6DC-B2B6-47A3-9D7A-5CCFE8DA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0BF6-8EF7-462A-B44F-EA91C3E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0676-7362-4447-B95A-AFA12B5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5BC8-9E07-46B6-ADE3-6D59DC5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9278-6287-4484-99D9-B0056148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5758-0DCA-45D0-BA0A-E4FDE34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DD9E-64B0-4D15-9F5E-29C0700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043C-1BF4-4C05-BA3A-7E6EE06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172-B5A5-490F-B31A-D61933F2DB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925-C5B5-4C9D-9258-BB88E54A735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0044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5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Библия ти все изследв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секи ден търси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цел ти все преследвай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ушай, що учи всеки ч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144360" y="693000"/>
            <a:ext cx="9324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си, изследвай! - Госп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ече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 Го и за теб, 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опай и искай опро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даде, ще с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36908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Библия все изследва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оди в спасителния дру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златний град ти пътя следв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ред този световен вой и шу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44360" y="693000"/>
            <a:ext cx="9324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си, изследвай! - Госп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ече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 Го и за теб, 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опай и искай опро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даде, ще с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1092240"/>
            <a:ext cx="932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Библия все изследавй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ще отпаднеш никога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и измъчени ти довежда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 милостивия Христо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144360" y="693000"/>
            <a:ext cx="9324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ърси, изследвай! - Госп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ече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и Го и за теб, и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лопай и искай опроще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даде, ще си блаж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25:31Z</dcterms:modified>
  <cp:revision>15</cp:revision>
  <dc:subject/>
  <dc:title>Slide 1</dc:title>
</cp:coreProperties>
</file>